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3183-D0D1-4852-8F4D-4BDBF6AD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B178-4778-4150-A056-787AD027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219A-CC23-4B2F-A862-93083AE1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9FE8-4305-45E0-A332-410CF4CA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B76-0C96-417F-9D53-9468248B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A5E3-C108-4599-912B-CD90C034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67E9-E1F8-492D-8995-0F7D41EF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40EE-9EF0-465B-8C42-C5B4AC87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6FE2-4A5B-47BF-9E06-F7D02777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B7CC-C3F1-4E8F-AD12-A15ECA8D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FF53-AAFF-4FF9-B71F-B406FC09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7501-833A-4098-8561-2A794081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60A1-431F-4C55-A7C4-2F5497477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700280"/>
            <a:ext cx="84247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ffff66"/>
                </a:solidFill>
                <a:latin typeface="Brush Script MT"/>
              </a:rPr>
              <a:t>Ландшафтны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ffff66"/>
                </a:solidFill>
                <a:latin typeface="Brush Script MT"/>
              </a:rPr>
              <a:t>дизай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66"/>
                </a:solidFill>
                <a:latin typeface="Brush Script MT"/>
              </a:rPr>
              <a:t>Конкуре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пуляризация профе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ая заработная пл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работать заграни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АЯ КОНКУРЕНЦИЯ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9716" t="0" r="19432" b="0"/>
          <a:stretch/>
        </p:blipFill>
        <p:spPr>
          <a:xfrm>
            <a:off x="4716360" y="1628640"/>
            <a:ext cx="421956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Brush Script MT"/>
              </a:rPr>
              <a:t>ГДЕ УЧИТЬСЯ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(в Санкт-Петербург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грарный Универс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сотехническая Академ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сударственная Художественно-Промышленная Академ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лтийский Институт экологии, Политики и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ститут Декоративно-Прикладного искус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ститут Телевидения, Бизнеса и Дизай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39685" b="0"/>
          <a:stretch/>
        </p:blipFill>
        <p:spPr>
          <a:xfrm>
            <a:off x="324000" y="765000"/>
            <a:ext cx="4225680" cy="5256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932360" y="765000"/>
            <a:ext cx="39387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Ландшафтный дизайн – что э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ловек способен вместе с природой создавать потрясающие шедевры. Ландшафтный дизайнер – человек, который участвует в этом тандеме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166920" cy="207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3097080" cy="2068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59280" y="306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20000" y="306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ПОС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66"/>
                </a:solidFill>
                <a:latin typeface="Brush Script MT"/>
              </a:rPr>
              <a:t>Ландшафтный дизайн – профессия будущег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2133360"/>
            <a:ext cx="64008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годня все больше людей имеют возможность создавать вокруг себя те условия, которые им нравятся. Они стремятся к красоте, уюту и комфорту. Именно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ландшафтный дизайнер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профессионал может им в в этом помо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66"/>
                </a:solidFill>
                <a:latin typeface="Brush Script MT"/>
              </a:rPr>
              <a:t>Работа ландшафтного дизайн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учение учас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мотрение пожеланий заказч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аботка эски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глас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бор 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 на участ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14574" t="0" r="14574" b="0"/>
          <a:stretch/>
        </p:blipFill>
        <p:spPr>
          <a:xfrm>
            <a:off x="179280" y="1557360"/>
            <a:ext cx="42814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600"/>
                            </p:stCondLst>
                            <p:childTnLst>
                              <p:par>
                                <p:cTn id="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5400720" cy="4054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51280" y="189000"/>
            <a:ext cx="504648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7712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66"/>
                </a:solidFill>
                <a:latin typeface="Berlin Sans FB"/>
              </a:rPr>
              <a:t>Художник или техник</a:t>
            </a:r>
            <a:r>
              <a:rPr b="0" i="1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i="1" lang="en-US" sz="4400" spc="-1" strike="noStrike">
                <a:solidFill>
                  <a:srgbClr val="ffff66"/>
                </a:solidFill>
                <a:latin typeface="Berlin Sans FB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ворческий потенц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стандартное мыш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ант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ение рис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2920" y="1989000"/>
            <a:ext cx="403884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ние техники и обору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женерные навы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ектирование технических асп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401760"/>
            <a:ext cx="8064720" cy="60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Биол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03280" y="2349360"/>
            <a:ext cx="6400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льзя забывать и о роли различных биологических факторов в этой профессии. Ботаника, почвоведение, знание климатических условий – без всего этого не может состояться настоящий профессио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0:05:58Z</dcterms:created>
  <dc:creator>Secret</dc:creator>
  <dc:description/>
  <dc:language>en-US</dc:language>
  <cp:lastModifiedBy>user</cp:lastModifiedBy>
  <dcterms:modified xsi:type="dcterms:W3CDTF">2007-04-27T09:27:09Z</dcterms:modified>
  <cp:revision>10</cp:revision>
  <dc:subject/>
  <dc:title>Слайд 1</dc:title>
</cp:coreProperties>
</file>